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1586-F925-4DFA-B2AB-43F4C7D4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87D5-2C80-4A70-8EB0-F3DBE3E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F51F-9F27-4C6E-AD36-198A3795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13CE-3203-4FBF-9ADF-E4AA71F2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C999-3892-40AF-8E9F-D5BD3CE4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E42-B0D6-459B-AA4A-95A8D92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2CA3-4B16-49EE-BE8C-30CDF72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C698-074B-44E8-A380-E6F2AC83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382-5ADB-42A4-8520-088D82E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4E5-C279-4152-9B5D-4CBCA3EA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B179-3C6A-4ABD-A327-5082BAF9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5265-5CFB-4169-BA1C-6C1470A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42DF-587F-46B0-B4E8-55AFDB0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B205-8FE1-47DA-8D4E-D74ED90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832-C426-45F2-B3EC-0056D5E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D888-4E2A-4E5F-96D0-703B5F3E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45EC-B24F-440E-96CF-4D840046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A6B4-B4B8-43D2-8F03-5829C08A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2F6A-4BFA-447B-B3A1-CDE635C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CCB7-CD67-430A-9276-3620879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D538-799B-4610-8ADB-1077FB6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8951-F420-46E9-B2BD-0E5C6BA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57C7-4398-4156-AE83-D73F366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C03D-EF6C-40FB-ADB5-CD541FF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3D2-806F-41AD-B1BA-0F710BAD17E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2AC-2737-4C28-97DE-52D95BE931E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60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9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акви са тез смущени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га що стават из град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де са тия множеств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значат тез събрания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Народът си тихо мълв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 от Назарет минава!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Исус, Тоз, що е няко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язъл, та посетил све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з де заминал, болни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ром приели здрави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Гласът наново казва пак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 от Назарет минава!"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8680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ж, иде пак и казва Той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уморений ти, 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Мене имаш ти покой, прощение, мир и веселб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" [: О, бедни грешниче, е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 от Назарет минава! :]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7:35:30Z</dcterms:modified>
  <cp:revision>195</cp:revision>
  <dc:subject/>
  <dc:title>Slide 1</dc:title>
</cp:coreProperties>
</file>